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1B2-0EF6-4568-8E47-903F3311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CD7-F42F-4501-824A-A561D890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C23-C465-4BE8-B136-462E6C94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625-243B-4D72-9C35-8A763FA6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93935-BE42-4251-8820-9A7750F6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0E185-B532-4D91-8E01-D780BD98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A2BE3-F731-4D3A-93B4-AB5536B6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68688-6B98-4973-9BEA-DC383691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DC29A-D442-4674-AC98-F23F128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99F13-24A3-4CCE-A266-7E084A2A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61146-23CD-4DFB-9BD3-18C9226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ACE-1F53-4314-B0DC-1AF377E3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07655-B5CE-451A-82EB-8C3C921E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B9F13-4F97-4729-804C-0E15B96F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604F5-A90F-4729-81C2-0635B69C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37D80-4BA9-4C5F-A02F-A34BD7A2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D7F87-530E-4A2B-8D86-B1023C34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B4E5-88F4-41FA-AAAF-55C3CA7C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EC9D-C16C-4983-AFDA-9A5D1FA5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18FB-2FA8-4486-B56E-FFFAB524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9639-C4A8-4D7A-8232-39F5DB8A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F957-45E2-46B7-9DE6-464D195E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4CC-A7B7-4649-A24B-023F4585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9F0B-3707-4F7E-8CF8-637E59EC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780A-FA2E-4114-9298-E6B9163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275C-1B96-445A-A5A1-7B2D1E3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2349-1DEE-4F4B-A3B6-5C6CE34F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562F-7783-4C00-90F3-8D4725B7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0C232-032C-48C8-B8B0-36BB90C9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D8E5-43C1-49D4-B0EF-F15EF1B4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589D-9CBD-4B8E-B8B8-EBAB5EF9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8CE63-F2AC-4058-8082-4718D21C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3AB1-FA72-4F4E-901D-C1B33FE7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469-A4F1-486F-BFC4-9CB5F3BC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4D641-EB73-470E-B8FA-E35EC1AB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CFA5-0CB4-4275-9E8D-485ED0A9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1A66-9580-4071-98CF-3B1B7054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17B3-7799-4754-8597-48E80F21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8598-639D-4FC9-BD7B-92819FC2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7DA76-D427-45E1-A62F-0BC952C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92A7-24B6-4C31-86E4-7095F76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860F-B3B3-43FF-9992-D860367C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FB72A-738C-4C27-ADF3-9E8FA29A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B9E76-0460-4988-A9C0-62198EE8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64A-0C5A-4703-9D00-A1FC48DD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6457-4EB6-4DFA-8A84-E87865E9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3946-4623-438E-ADE0-B4D81084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2561A-ABBC-4E5E-B5F5-2B9B95ED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6DB0D-7D5B-4CAB-9B4A-F2044669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82E1C-2B35-4597-BEA8-918049B7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35E46-35F7-4E35-A1A0-CF2B9AF5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F95C-6B2D-48BF-B465-0B7E7754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A3254-5AB4-49D1-8EE2-7278FCBD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95AB6-57CD-4AED-A969-DE16661C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18CC6-77D8-43A2-9B07-A7EFFADF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66C-859A-4557-AA82-7D8BC394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A0729-255E-44BF-84AC-31148485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81002-99DA-4C35-B7E9-5EA65186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63058-793D-4130-BBEC-B5DB5490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06303-0FE9-4628-8530-27D36608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85F5-3AFD-4FF4-9D43-47D0C94F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F2AD7-9AC5-44FC-B56D-AFCBDA79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88519-0EAB-499D-9F1A-1E3A7AE2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3872E-2161-4E7C-842A-3F4684A6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1FD4-58B3-48B1-9416-081766F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DD02E-39BB-486B-83B1-11D6D32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95D-8BD9-4C4B-BA74-71AAEC9D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A9D30-CC07-413A-BDD8-21E0FF0C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E0C5-5077-4D3D-B338-9C059C21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EC9DB-8058-467E-9DF8-BA3AB4C9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57CBF-BC8F-494E-8566-5CDA247A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879F2-1444-455D-B49F-A7974D51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286C7-90F9-4793-8BF2-134721D5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8ADC-B8BD-4CAB-9AB4-52F5ED6D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F1C12-3B2E-4DE6-A5F7-0E098295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928F9-4156-430E-8B11-1BB3BFF0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D5B66-8BD4-4076-A722-FC510AF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137-11DD-4B07-8522-16AB96A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72685-F6A7-4FB5-A360-C7E9EDC0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ECD67-1014-4AD6-A3FE-79E937CE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B7317-7792-4BB8-AF04-1C174BA6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EF948-DFD9-4FDA-86D0-B8DDF553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BE5FD-2383-4423-94A2-B7819B81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F3F9F-715B-414A-BD32-C706283A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B6AB7-EF72-4937-B707-D9C7631E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04849-64A3-46F3-B852-10CA9F38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73CC5-718E-4553-AD63-7BDDD7DA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83A25-0A60-44BB-A35C-712E8D48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DDF-C292-4676-95AC-B0C8E60E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788C2-9A2B-420B-9574-0CA8A4E3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123E4-C4EA-4BFB-89DC-7371D831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B6859-6385-4B6D-8D3E-D9DC095E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9DBBB-FEDA-4A2F-A0B7-D5E180B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03D6A-63CC-493B-ADAC-58974884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7D7A3-0438-4D78-BB24-B0F12819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ABB52-A00B-40D3-BF46-F291725E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63419-6E45-4641-9F0E-1901C47E4C2C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33297-5A23-477C-89DA-96481C1EC874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Rectangle 14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C4B68-8EF0-4EB1-9F2E-10D4F1E51882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8" name="Straight Connector 11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164BE-49CB-4401-901E-99FC21E7D61D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109A6-5049-46BA-A3BD-5ED233207EBE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1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DE079-A7E0-4BA5-A903-20A4B94A2EA0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Rectangle 13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B234E-694D-48FB-9A0B-94928C84104D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3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9357D-CB33-4558-B0B0-DE04263399D9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I’d Rather…</a:t>
            </a:r>
            <a:br>
              <a:rPr sz="4600"/>
            </a:b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preferences adapted from </a:t>
            </a:r>
            <a:br>
              <a:rPr sz="4600"/>
            </a:b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El Condor Pas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For Els at I level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have a monkey than a zebra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Hung Ho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0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51240" y="666720"/>
            <a:ext cx="6140160" cy="54640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be a carpenter than a coach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Anthony Navarro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9520" y="627120"/>
            <a:ext cx="8475840" cy="5751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962a2"/>
                </a:solidFill>
                <a:latin typeface="Calisto MT"/>
              </a:rPr>
              <a:t>What would you rather have,____or _____?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</a:t>
            </a:r>
            <a:r>
              <a:rPr b="0" lang="en-US" sz="5200" spc="-1" strike="noStrike" u="sng">
                <a:solidFill>
                  <a:srgbClr val="ff2929"/>
                </a:solidFill>
                <a:uFillTx/>
                <a:latin typeface="Calisto MT"/>
              </a:rPr>
              <a:t>have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_____...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_____.....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because….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407880" y="306540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2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407880" y="914400"/>
            <a:ext cx="15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1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09520" y="627120"/>
            <a:ext cx="8475840" cy="5751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962a2"/>
                </a:solidFill>
                <a:latin typeface="Calisto MT"/>
              </a:rPr>
              <a:t>What would you rather be;____or _____?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</a:t>
            </a:r>
            <a:r>
              <a:rPr b="0" lang="en-US" sz="5200" spc="-1" strike="noStrike" u="sng">
                <a:solidFill>
                  <a:srgbClr val="ff2929"/>
                </a:solidFill>
                <a:uFillTx/>
                <a:latin typeface="Calisto MT"/>
              </a:rPr>
              <a:t>be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a_____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_____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because….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407880" y="306540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2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TextBox 6"/>
          <p:cNvSpPr/>
          <p:nvPr/>
        </p:nvSpPr>
        <p:spPr>
          <a:xfrm>
            <a:off x="407880" y="914400"/>
            <a:ext cx="15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1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09520" y="627120"/>
            <a:ext cx="8475840" cy="5751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962a2"/>
                </a:solidFill>
                <a:latin typeface="Calisto MT"/>
              </a:rPr>
              <a:t>What would you rather drink/eat,____or _____?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</a:t>
            </a:r>
            <a:r>
              <a:rPr b="0" lang="en-US" sz="5200" spc="-1" strike="noStrike" u="sng">
                <a:solidFill>
                  <a:srgbClr val="ff2929"/>
                </a:solidFill>
                <a:uFillTx/>
                <a:latin typeface="Calisto MT"/>
              </a:rPr>
              <a:t>drink/eat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_____than _____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because….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407880" y="306540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2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407880" y="914400"/>
            <a:ext cx="15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1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9520" y="627120"/>
            <a:ext cx="8475840" cy="5751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962a2"/>
                </a:solidFill>
                <a:latin typeface="Calisto MT"/>
              </a:rPr>
              <a:t>What would you prefer to drink/eat,____or _____?</a:t>
            </a:r>
            <a:br>
              <a:rPr sz="5200"/>
            </a:b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prefer _____to_____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because….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407880" y="306540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2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407880" y="914400"/>
            <a:ext cx="15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1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09160" y="118260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be a sparrow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a snail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1"/>
          <a:stretch/>
        </p:blipFill>
        <p:spPr>
          <a:xfrm>
            <a:off x="6350040" y="914400"/>
            <a:ext cx="2457360" cy="2151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6381720" y="3305160"/>
            <a:ext cx="24256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09160" y="118260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be a hammer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a nail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367" name="Picture 8" descr=""/>
          <p:cNvPicPr/>
          <p:nvPr/>
        </p:nvPicPr>
        <p:blipFill>
          <a:blip r:embed="rId1"/>
          <a:stretch/>
        </p:blipFill>
        <p:spPr>
          <a:xfrm>
            <a:off x="6416640" y="2908440"/>
            <a:ext cx="2427480" cy="24271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9"/>
          <p:cNvSpPr/>
          <p:nvPr/>
        </p:nvSpPr>
        <p:spPr>
          <a:xfrm>
            <a:off x="7719840" y="19558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2"/>
          <a:stretch/>
        </p:blipFill>
        <p:spPr>
          <a:xfrm>
            <a:off x="6505560" y="790560"/>
            <a:ext cx="2019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9160" y="118260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be a _____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a _____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09160" y="118260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would rather have a _____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a _____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_______</a:t>
            </a:r>
            <a:br>
              <a:rPr sz="5200"/>
            </a:br>
            <a:r>
              <a:rPr b="0" lang="en-US" sz="5200" spc="-1" strike="noStrike">
                <a:solidFill>
                  <a:srgbClr val="ffff00"/>
                </a:solidFill>
                <a:latin typeface="Calisto MT"/>
              </a:rPr>
              <a:t>verb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_____...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_____.....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paint a picture than push a wagon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Bryanna Diaz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have a family than be wealthy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Kevin Fierros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draw a dog than climb a tree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Rosa Hernandez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6:42Z</dcterms:created>
  <dc:creator>City School</dc:creator>
  <dc:description/>
  <dc:language>en-US</dc:language>
  <cp:lastModifiedBy>122790</cp:lastModifiedBy>
  <dcterms:modified xsi:type="dcterms:W3CDTF">2011-07-07T21:20:36Z</dcterms:modified>
  <cp:revision>15</cp:revision>
  <dc:subject/>
  <dc:title>I’d Rather adapted from</dc:title>
</cp:coreProperties>
</file>